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669A-17C3-4953-9198-EFBD11854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speaking can be challenging but if you prepare and know a lot of information about your topic then things should go smooth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cards may help you remember what to sa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7F75-9432-4746-B813-44F53296A0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E368-0BE8-4702-8CB2-138CFAF85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F6A6-2C74-4067-80E9-D9F40A1BF6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9908-6A9F-4BC9-9734-F6806A5CEE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35E-8768-461F-8CD5-BB8817238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6B5E-BF50-4AF3-8AF3-8565A2313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777-88B3-4574-AAA1-AB9483269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178-EA44-4D62-9C88-E7B60BE08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5096-002A-4A0D-9D06-1A0B69D5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1515-5584-4B98-ACE3-103FF777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5820-C91A-45A5-9DCB-9C377E27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A559-3207-45E5-9B1E-4008B8A4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062E-C7C9-4C8D-AA5A-E021B41B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E144-78C4-47E0-9272-B88BF75E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AB9D-1A0A-414C-BCD9-FD15910D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8AA1-5585-47FE-A95C-636C4534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F99A-D76A-4E64-9859-BDBECE7F19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blic Speak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Oh no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at should I do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733920" y="5562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nee Cros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derstand the content that you are present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Have team members quiz you on your topic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Write an outline of any and all of your ideas/ knowledge on the topic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epare note cards that cover main points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se your outline to write note cards that explain your project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Number the note cards to keep them in order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lace a title on the note card so you know the main idea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a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e your presentation and all extra materials completed ear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ake sure you know how long you are allowed to speak and plan enough material to speak for that amount of time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Practice in front of: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mirr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your team memb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your par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Langu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28600" y="12952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me neat and c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ress nicel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y extra attention to your personal hygie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stu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urn your body toward the audi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 up stra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nd to one side of the projector scre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ke eye cont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press yoursel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play enthusiasm, appear positive and interested in what you are say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mile and try to stay calm, know that your facial expressions are communicating with the audi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your hands to gesture or clasp them together behind your bac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peak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ud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ea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ly enough that everyone in the audience understands yo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 language that is appropriate for you audience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y using pauses to emphasize a point or add impact to what you are saying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y on topic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23:55:38Z</dcterms:created>
  <dc:creator>gaelencross</dc:creator>
  <dc:description/>
  <dc:language>en-US</dc:language>
  <cp:lastModifiedBy>gaelencross</cp:lastModifiedBy>
  <dcterms:modified xsi:type="dcterms:W3CDTF">2011-08-02T01:59:22Z</dcterms:modified>
  <cp:revision>19</cp:revision>
  <dc:subject/>
  <dc:title>Public Speaking </dc:title>
</cp:coreProperties>
</file>